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87A7C-22AA-42D1-85CA-C697B5C6E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E5E6-6F57-47E3-89B0-B513F1060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1492D-8945-4BC2-897B-3E1853DAD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D5A0-96F4-493D-8D9C-41EDCDAAD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CCBC1-75B1-41F9-9399-469EFA4159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391E7-149E-442F-AC28-6C2FB158E6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E86C5-144C-4623-BEE5-3C376F87C3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86D0E-01FF-4923-8ABE-D3B311CA3E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B4DA7-4B4C-4D4C-962C-8DA8B8CD09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E1955-BBE9-40E8-A46B-73C83B1562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14E7C-C849-48CD-8CD7-84803067ED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CA28-AB29-4C36-867D-AD89F32A8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1A47B-3785-4357-AD47-EF1A18D459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5EF85-AE11-47F6-BD22-EFCA8E5E76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0ACD8-5801-444A-A53A-C35AB96A9F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3180D-741F-498F-A22B-6F486920F2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5F8CA-66D1-4DEB-9D22-14B969C48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75CC-9B49-451B-A7A1-B9941751E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41A4-DA67-4408-8835-A033C56B3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9027-70A6-4610-9499-B64E6B436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FB51-1E81-446D-A382-485D90174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975C-CED5-492A-B9D3-D45E1DBC6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7E8A-26C5-4079-8702-C6976944D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E85E-10BB-4C3E-8389-232E497D7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5A42E15-80EF-494D-AF21-A2C927ABFD5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39A3DBC-5EB1-498D-BC44-E002C48F67D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0947372-BD9D-4B5C-A072-0FC7F9C6E5C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7CEDF77-BA2D-448F-BD41-7937D434D66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DB41-0039-420F-88DC-82B766FA62F1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1-24T11:04:35Z</dcterms:modified>
  <cp:revision>337</cp:revision>
  <dc:subject/>
  <dc:title>No Slide Title</dc:title>
</cp:coreProperties>
</file>